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36B1-BACA-4534-89FA-D28AD4CB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FF4-E782-488F-B7C7-B7CB1F76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C3FF-F420-4E6A-ADB5-F48C069A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02F-897E-4CD5-B2A3-0E541176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E923-235D-4390-9D4F-F53546D3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AACE-8306-4741-81DD-58271805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A4E-74B8-40C8-BDCA-68DE4683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A932-0196-4F4D-B1A4-C4CC08E9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6C61-01A0-462A-8F11-6BEEC7A7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BBD8-2B46-4CA4-BC7B-A43A2EF2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0A02-455B-4E40-8A57-664DEB21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A19-2932-4452-88D9-EE076CE6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7F1B-C3A0-4E15-ABF0-4875B30A15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28" descr="MRC-logo"/>
          <p:cNvPicPr/>
          <p:nvPr/>
        </p:nvPicPr>
        <p:blipFill>
          <a:blip r:embed="rId2"/>
          <a:stretch/>
        </p:blipFill>
        <p:spPr>
          <a:xfrm>
            <a:off x="7839000" y="6400800"/>
            <a:ext cx="1168560" cy="31752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3829-7FD3-4A8C-8F44-ECDD06D0803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1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1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6561-1BE5-4C75-8AA5-E52568D33F5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4AF1-EFE6-4C6B-87B3-EC6E0B1210C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5394-846E-4B65-8A8F-83754DB8D86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DC69-CFA3-46B6-9A83-A5EECAFE79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5CCC-F2F1-481D-AD34-C01DA3E613D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ED65-536B-4102-BFC4-E36C6F1FA0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238F-1D34-471B-AB0D-78DDABF7B6F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EE45-6688-4796-91F4-9B08DB9B1CF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0" dur="1" fill="hold"/>
                                  <p:tgtEl>
                                    <p:spTgt spid="14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9300-2044-4930-8BF9-D03B114CC65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4" dur="1" fill="hold"/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65A8-E654-4282-8CD3-17E54720EF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4" dur="1" fill="hold"/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9625-7067-4A0B-9A37-9BC7EC6743A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3 November 201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575E-E409-48CE-B544-E6039057F9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DAB0-1972-408F-A06C-88B6126B51C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8" dur="1" fill="hold"/>
                                  <p:tgtEl>
                                    <p:spTgt spid="1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6110-89D6-40CC-ADA5-FA71680B4C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7" dur="1" fill="hold"/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4341-5F52-461A-87B2-4457DB0D360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1675-66A1-49A4-8D43-99BE4585C14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C764-7681-4AA1-9E8B-BADFDE59C49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E3C0-A62C-4423-9666-B277B53F79E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9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9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9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20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20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20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20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20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20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20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20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20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20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1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2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22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22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22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2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9AED-632C-4DD9-8328-D3967EE7EE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126F-5F2C-4EC0-9654-8A29BB07CD0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0737-2ACA-4E8D-B32F-FA8BB3ADFA6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BBF9-23DF-4518-A4F7-A3F56C33E37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07A9-71D7-43E5-8045-20B17BB873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C8BD-21D6-408D-8E93-A101BB0A784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C0EB-E7D6-4FA0-BD5D-53BF6389B0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2D7D-96F0-4218-820D-A48718A40A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6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9" dur="1" fill="hold"/>
                                  <p:tgtEl>
                                    <p:spTgt spid="2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980B-B626-46F4-BABF-146C908F993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CEC6-7E16-4ACA-BFAE-09455D4DFC6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8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CEE0-59ED-4246-889C-8551A6267B6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4"/>
          <p:cNvSpPr/>
          <p:nvPr/>
        </p:nvSpPr>
        <p:spPr>
          <a:xfrm>
            <a:off x="1303200" y="3952800"/>
            <a:ext cx="76914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A207-C61D-4D82-9675-79633563218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30F2-1F1C-4FBD-9E2A-61BF5CB959A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170F-82B7-4DD9-8E11-9BB65BE8957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9322-B7B3-47AE-A24A-D208EAF2AC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7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5" dur="1" fill="hold"/>
                                  <p:tgtEl>
                                    <p:spTgt spid="7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0601-CD0B-4079-A2DF-C3BE55141BC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F4E9-98D6-44BC-9168-246C4751AC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C380-751D-47C3-92D1-CD44432ACFC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34FA-C64E-4810-90A8-78AA5997DA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3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C148-D4F2-4117-843E-E456BF043A5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6B85-4D58-4B46-AD3A-2AAFF04BA5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596F-CFEE-4EDE-9F79-EED1675C3F2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35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934B-0D08-473D-A086-E2942F2056B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E344-B543-4BD9-ADE9-9EA294212EC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36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74E1-CBB2-4605-9DC4-1155D4BD69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37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2A7E-BFD1-4C0B-AA73-60ADE53FB8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F0DA-0F8B-4FF7-9209-4E01C0D5174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FF86-81F7-491E-ACB8-37293327E2B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CA39-DD52-41B1-88AB-ADC831F2B02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3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3543-43B1-4467-AC83-6ABBE3C8CA5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3BB1-53F3-418C-AF68-6CB5933E44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4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B976-42A2-42EF-912F-EBCAEEF872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1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8FDF-2E37-483C-BD8D-3ECBA0E22B4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4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7C5E-B8E7-4746-ABD1-9A9ABBB5075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is cas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4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CA19-BDC4-4F89-A4BF-446E82F5B7B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11am on Thursday 10 November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A66F-FCD9-481F-8279-92D8027289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5411-F535-4CBA-8636-BBB86D70411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F23B-5ED2-440B-8474-DF21A5CC95B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7CB5-4EA6-49D6-AF8D-A7561EA8367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5" dur="1" fill="hold"/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6" dur="1" fill="hold"/>
                                  <p:tgtEl>
                                    <p:spTgt spid="1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1-10-20T13:25:47Z</dcterms:modified>
  <cp:revision>83</cp:revision>
  <dc:subject/>
  <dc:title>Aims and Objectives</dc:title>
</cp:coreProperties>
</file>